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600E-F3F9-4900-95FF-4397C1586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6687-90E7-4DF9-ABA5-33A4580F3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139B-A85F-4DF1-AC95-D964BF808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BD5B-4CAA-4B35-A830-860CE90AAD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D517-EE2E-40DF-91C9-D9AEE18E22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028C-84DE-4870-BECC-44D32AF6D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C5144-1D89-4AA8-8909-48817C113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868B8-59B8-43D4-B747-528B9BB85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FEFA-7212-4CC4-B36A-D9C6EFE05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02D7-ED41-4141-A148-BBEC032E0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7953-2BD9-4E8E-8245-F124F84E8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224BE-5084-44C6-9AB2-DF11B4399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6CAF-7549-4165-B57E-C15A37D566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487692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37FF-0AEA-4E81-AE86-6455DA0055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47242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76000"/>
          </a:bodyPr>
          <a:p>
            <a:pPr marL="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Kindergarten to Grad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1ABA-096D-4FB4-AF60-1B45090484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533520" y="762120"/>
            <a:ext cx="64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ad the article Fair Shares, Matey, or Walk the Plank! (NCTM, April 2012).  As you are reading conside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819520" y="2846520"/>
            <a:ext cx="556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esting facts I lear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ig ideas I will think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g I would like to 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unchtime Lear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48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ble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as many different ways to show one half of a geo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AEBE-1EE7-465A-8DDC-6BD2DF0EB8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400800" y="4038480"/>
          <a:ext cx="2362320" cy="2233800"/>
        </p:xfrm>
        <a:graphic>
          <a:graphicData uri="http://schemas.openxmlformats.org/drawingml/2006/table">
            <a:tbl>
              <a:tblPr/>
              <a:tblGrid>
                <a:gridCol w="236520"/>
                <a:gridCol w="236520"/>
                <a:gridCol w="235080"/>
                <a:gridCol w="236520"/>
                <a:gridCol w="236520"/>
                <a:gridCol w="236520"/>
                <a:gridCol w="236520"/>
                <a:gridCol w="235080"/>
                <a:gridCol w="236520"/>
                <a:gridCol w="236520"/>
              </a:tblGrid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429000" y="4343400"/>
          <a:ext cx="2362320" cy="2233440"/>
        </p:xfrm>
        <a:graphic>
          <a:graphicData uri="http://schemas.openxmlformats.org/drawingml/2006/table">
            <a:tbl>
              <a:tblPr/>
              <a:tblGrid>
                <a:gridCol w="236520"/>
                <a:gridCol w="236520"/>
                <a:gridCol w="235080"/>
                <a:gridCol w="236520"/>
                <a:gridCol w="236520"/>
                <a:gridCol w="236520"/>
                <a:gridCol w="236520"/>
                <a:gridCol w="235080"/>
                <a:gridCol w="236520"/>
                <a:gridCol w="236520"/>
              </a:tblGrid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172200" y="228600"/>
          <a:ext cx="2362320" cy="2233440"/>
        </p:xfrm>
        <a:graphic>
          <a:graphicData uri="http://schemas.openxmlformats.org/drawingml/2006/table">
            <a:tbl>
              <a:tblPr/>
              <a:tblGrid>
                <a:gridCol w="236520"/>
                <a:gridCol w="236520"/>
                <a:gridCol w="235080"/>
                <a:gridCol w="236520"/>
                <a:gridCol w="236520"/>
                <a:gridCol w="236520"/>
                <a:gridCol w="236520"/>
                <a:gridCol w="235080"/>
                <a:gridCol w="236520"/>
                <a:gridCol w="236520"/>
              </a:tblGrid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rticipants w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derstand the use of number line activities to from whole number to fraction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ognize how the number line is different from other fractional representations and its 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derstand the importance of the number line and how understanding its 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ognize the advantages that can be gained by using the number 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onsolidation 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n the back of your number lin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 What are some pluses of using the number line when dealing with fr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. What mathematical concepts can be reinforced by using the number l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8377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flect on the Quot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Learning is a treasure that will follow its owner everywher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inds On!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Human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3733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5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3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8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F6D9-AED2-4098-90B5-E7F133374D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3EAF-A8E2-413F-9B48-6CCBEA692A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1295280" y="2514600"/>
            <a:ext cx="6782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2193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76960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b5ca9"/>
                </a:solidFill>
                <a:latin typeface="Arial"/>
              </a:rPr>
              <a:t>Minds On!</a:t>
            </a:r>
            <a:br>
              <a:rPr sz="3200"/>
            </a:br>
            <a:r>
              <a:rPr b="0" lang="en-CA" sz="3200" spc="-1" strike="noStrike">
                <a:solidFill>
                  <a:srgbClr val="2b5ca9"/>
                </a:solidFill>
                <a:latin typeface="Arial"/>
              </a:rPr>
              <a:t>Human Number Line Transformed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880" y="3048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5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3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8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your thinking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D1B0-85A7-4840-9EA3-929F03C002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C2BB-3AFD-47EE-8794-4579D3A64F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990720" y="1905120"/>
            <a:ext cx="6781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8380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7467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inds On!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Human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3733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ystery person stands somewhere and the rest figure out what fraction he/she migh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5A8F-E04A-458F-8BBC-5E2E675B52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EE19-1121-445B-97FF-202910EA02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1295280" y="2514600"/>
            <a:ext cx="6782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2193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6960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inds On!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Human Number Line – again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3733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one half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one fourth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and where three fourths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D9F8-AC06-421A-A987-9A944F5109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098A-30E2-490F-B107-039328983C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1295280" y="2514600"/>
            <a:ext cx="6782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2193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76960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Action!</a:t>
            </a:r>
            <a:br>
              <a:rPr sz="4000"/>
            </a:b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Adding Tape Paper Fold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8960" y="22856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Pair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can you fold the tape to get hal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can you fold the tape to get fourt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bel your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scuss with your partner, "Why are the fractions different on your various sized adding tape pieces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838080" y="1295280"/>
            <a:ext cx="73915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8380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80010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dding Tape Paper Fold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Pairs with a new adding tap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can you fold the tape to get thir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ould happen if you folded the tape in half ag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bel your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scuss with your partner, "Why are the fractions different on your various sized adding tape pieces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838080" y="914400"/>
            <a:ext cx="73915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85800" y="1523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8001000" y="1600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Body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th your partn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where these fractions would be on your bodies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one half, one fourth, two th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rk those spots with sti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adding tape to check est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F16B-E426-4EF9-8DEE-910794C4AD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Body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294920"/>
            <a:ext cx="69343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th your partn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cide what fraction would be where your kne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cide what fraction would be where your ey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you and your partner have the same fractions?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adding tape to che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6E12-22DE-4F78-84DA-F0D5A56D27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cchaput</cp:lastModifiedBy>
  <dcterms:modified xsi:type="dcterms:W3CDTF">2012-08-23T19:17:24Z</dcterms:modified>
  <cp:revision>21</cp:revision>
  <dc:subject/>
  <dc:title>&lt;Title&gt;</dc:title>
</cp:coreProperties>
</file>